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77EC-89B5-468B-A4DD-CBFA09255B1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0660-B7CE-4C5F-9CF9-1A4D1C022DE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3B6-8FF0-442B-A374-DAA43E6A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E59-18CE-459F-AB9C-2953FF2D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292-22A4-436A-B495-C1C188B2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4A9-03F2-4F55-97F8-8982C6FE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C6F-1F66-434E-B10B-A951D1E5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6DF-7131-493F-8424-508274F4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FA9-40D5-4EBC-897B-6460CAEB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81C-2AB6-4DCA-97C1-BAA17B59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AEF-23F7-4119-8855-24E763DF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1E6-7343-47EC-BDFA-E10C27D5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799-39E6-4B57-ABBE-5DD35B78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5D7-3A4F-46C9-B2B6-143BAFC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2CAF-D0FB-49BD-81BD-1B9489A149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62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4f6228"/>
                </a:solidFill>
                <a:latin typeface="AR BLANCA"/>
              </a:rPr>
              <a:t>WIOSNA, WIOSN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3" descr="wiosn.jpg"/>
          <p:cNvPicPr/>
          <p:nvPr/>
        </p:nvPicPr>
        <p:blipFill>
          <a:blip r:embed="rId1"/>
          <a:stretch/>
        </p:blipFill>
        <p:spPr>
          <a:xfrm>
            <a:off x="1187280" y="2681280"/>
            <a:ext cx="6969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"/>
              </a:rPr>
              <a:t>Wiosenne miesiące to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c00000"/>
                </a:solidFill>
                <a:latin typeface="Calibri"/>
              </a:rPr>
              <a:t>MARZE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c00000"/>
                </a:solidFill>
                <a:latin typeface="Calibri"/>
              </a:rPr>
              <a:t>KWIECIE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c00000"/>
                </a:solidFill>
                <a:latin typeface="Calibri"/>
              </a:rPr>
              <a:t>MAJ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ff0000"/>
                </a:solidFill>
                <a:latin typeface="Calibri"/>
              </a:rPr>
              <a:t>A teraz czas na zagadki!!!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gadka nr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ak nazywa się ta pora roku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Gdy skowronek na niebie śpiew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Kiedy kwiaty rozkwitają wokó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I gdy zielenią się listki na drzewac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(wios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gadka n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4000" y="2060280"/>
            <a:ext cx="7848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Mam czarno-białe ubran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I buty czerwo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Żaby ze strachu aż mdleją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Gdy spojrzę w ich stronę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933c"/>
                </a:solidFill>
                <a:latin typeface="Calibri"/>
              </a:rPr>
              <a:t>(boci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gadka n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2060280"/>
            <a:ext cx="8136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Kolorowe i pachnące,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zakwitają wiosną.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Można spotkać je na łące,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 parku i w ogródku rosn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b050"/>
                </a:solidFill>
                <a:latin typeface="Calibri"/>
              </a:rPr>
              <a:t>(kwiaty)        </a:t>
            </a:r>
            <a:r>
              <a:rPr b="1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Przygotowała: grupa  Skrza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5437080" y="0"/>
            <a:ext cx="5113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f7f9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Calibri"/>
              </a:rPr>
              <a:t>21 marca rozpoczęła się astronomiczna wios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o Polski przylatują bociany i żuraw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Angelika\AppData\Local\Microsoft\Windows\INetCache\IE\I82946LB\1200px-White_Stork_(Ciconia_ciconia)_(4)[1].jpg"/>
          <p:cNvPicPr/>
          <p:nvPr/>
        </p:nvPicPr>
        <p:blipFill>
          <a:blip r:embed="rId1"/>
          <a:stretch/>
        </p:blipFill>
        <p:spPr>
          <a:xfrm>
            <a:off x="0" y="1530360"/>
            <a:ext cx="4572000" cy="532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Users\Angelika\AppData\Local\Microsoft\Windows\INetCache\IE\YPAPCL8T\156px-Grus_grus_2_(Marek_Szczepanek)[1].jpg"/>
          <p:cNvPicPr/>
          <p:nvPr/>
        </p:nvPicPr>
        <p:blipFill>
          <a:blip r:embed="rId2"/>
          <a:stretch/>
        </p:blipFill>
        <p:spPr>
          <a:xfrm>
            <a:off x="4549680" y="1557360"/>
            <a:ext cx="45943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roda powoli budzi się do ży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2" descr="C:\Users\Angelika\AppData\Local\Microsoft\Windows\INetCache\IE\YPAPCL8T\cherry_blossom_japanese_cherry_trees_blossom_bloom_spring_snow_cold_nature-632866[1]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czesną wiosną rozkwitają pierwsze  kwiaty -zawil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Angelika\AppData\Local\Microsoft\Windows\INetCache\IE\CWTNR2MO\220px-Zawilec_(Anemone)_3[1].jp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okusy również pokazują się nieśmia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Angelika\AppData\Local\Microsoft\Windows\INetCache\IE\YPAPCL8T\crocus-324142_960_720[1]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 zimowego snu budzą się niedźwiedz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Users\Angelika\AppData\Local\Microsoft\Windows\INetCache\IE\YPAPCL8T\Niedźwiedź_brunatny_Muzeum_K._i_W._Tomków[1].jpg"/>
          <p:cNvPicPr/>
          <p:nvPr/>
        </p:nvPicPr>
        <p:blipFill>
          <a:blip r:embed="rId1"/>
          <a:stretch/>
        </p:blipFill>
        <p:spPr>
          <a:xfrm>
            <a:off x="1185840" y="1600200"/>
            <a:ext cx="677232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Angelika\AppData\Local\Microsoft\Windows\INetCache\IE\YPAPCL8T\Niedźwiedź_brunatny_Muzeum_K._i_W._Tomków[1].jpg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zień staje się coraz dłuższy, a noc coraz krótsz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Angelika\AppData\Local\Microsoft\Windows\INetCache\IE\TPHC6KPD\2645590772_f85954c364_b[1].jpg"/>
          <p:cNvPicPr/>
          <p:nvPr/>
        </p:nvPicPr>
        <p:blipFill>
          <a:blip r:embed="rId1"/>
          <a:stretch/>
        </p:blipFill>
        <p:spPr>
          <a:xfrm>
            <a:off x="4716360" y="1628640"/>
            <a:ext cx="4427640" cy="522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Angelika\AppData\Local\Microsoft\Windows\INetCache\IE\I82946LB\Пляж._Мис_Опук[1].jpg"/>
          <p:cNvPicPr/>
          <p:nvPr/>
        </p:nvPicPr>
        <p:blipFill>
          <a:blip r:embed="rId2"/>
          <a:stretch/>
        </p:blipFill>
        <p:spPr>
          <a:xfrm>
            <a:off x="0" y="1628640"/>
            <a:ext cx="4932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mperatury rosną, robi się coraz ciepl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:\Users\Angelika\AppData\Local\Microsoft\Windows\INetCache\IE\TPHC6KPD\sun-47083_960_720[1].png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7:51:57Z</dcterms:created>
  <dc:creator>Angelika</dc:creator>
  <dc:description/>
  <dc:language>en-US</dc:language>
  <cp:lastModifiedBy>Robert</cp:lastModifiedBy>
  <dcterms:modified xsi:type="dcterms:W3CDTF">2020-04-03T14:39:52Z</dcterms:modified>
  <cp:revision>14</cp:revision>
  <dc:subject/>
  <dc:title>PSZCZÓŁKI</dc:title>
</cp:coreProperties>
</file>